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390F-BA7A-49A7-B0D8-C3CEE385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0A1F-E35B-47C6-94B7-5343312F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450F-39A1-4580-87AF-91B74339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AA62-998B-4BA1-8683-A4067C3E7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FBD2-D979-4BCA-A824-DF6BCA008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8703-4CDC-4A3C-890A-C264E004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4521-3697-4B34-AB8F-2315B884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AA73-8A81-41F0-950F-60724152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20EF-3DFF-418D-B67B-20C94B48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3B2F-7314-43BC-8377-1CA362A6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C0A3-E512-4CC4-9F52-7CDE723F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3711-4865-4017-A080-AB6E7000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3F7A-176B-418E-BC18-963BB3CC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4AB8-7B9B-4235-80CC-E4503C2D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9B53-2867-44B3-B933-43F9ACE9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D04B-C491-49DB-A12E-BB8FACF8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F18D-02DB-4C5F-A0BB-BF9D645F4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7AF7-6421-4F41-8841-A3B8B29B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BB00-6ED4-4290-B0A9-2004A3D0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5052-BF92-44F7-9D67-F1DB9702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561B-5C57-484E-BDC3-DEF5E591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F40F-7A74-4C64-8A1B-A7E79E61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448B-AF1D-4E96-8530-1A7EF9A0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EE56-BDD5-480C-B1DF-A484CA6C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835E-E0DE-45B8-804D-558A1887E9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BF63-668D-4337-8392-0A2EA98A29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uthentichistory.com/1865-1897/progressive/riis/157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all to Order: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09480" y="1447920"/>
            <a:ext cx="7772400" cy="11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What does the word “progress” mean?  Create a diagram in your notebook that looks like the one below, and fill in the boxes regarding the word “progress”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1981080" y="3505320"/>
            <a:ext cx="4876920" cy="27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. Societal Il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4002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. Conditions in Slu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6666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No indoor plumbing so waste ended up in the streets, spreading diseas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6666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12-16 families living in one hous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6666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Lack of fire protect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7" descr="riiscitytenement"/>
          <p:cNvPicPr/>
          <p:nvPr/>
        </p:nvPicPr>
        <p:blipFill>
          <a:blip r:embed="rId1"/>
          <a:stretch/>
        </p:blipFill>
        <p:spPr>
          <a:xfrm>
            <a:off x="4578480" y="1974960"/>
            <a:ext cx="41148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. Societal Ills continu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4320" y="1828800"/>
            <a:ext cx="4002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B. Conditions in Workplac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31240" indent="-443160">
              <a:spcBef>
                <a:spcPts val="601"/>
              </a:spcBef>
              <a:buClr>
                <a:srgbClr val="6666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p blades threatened meatpac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1240" indent="-443160">
              <a:spcBef>
                <a:spcPts val="601"/>
              </a:spcBef>
              <a:buClr>
                <a:srgbClr val="6666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tton dust plagues textile wo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1240" indent="-443160">
              <a:spcBef>
                <a:spcPts val="601"/>
              </a:spcBef>
              <a:buClr>
                <a:srgbClr val="6666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e was a r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1240" indent="-443160">
              <a:spcBef>
                <a:spcPts val="601"/>
              </a:spcBef>
              <a:buClr>
                <a:srgbClr val="6666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ld laborers were as young as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15" descr="&quot;Didn't live nowhere&quot;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28600" y="1828800"/>
            <a:ext cx="3375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. Societal Ills Continu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4002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Unsafe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514440">
              <a:spcBef>
                <a:spcPts val="550"/>
              </a:spcBef>
              <a:buClr>
                <a:srgbClr val="666699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ngs found in meat included rat droppings, rats, borax, formaldehy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514440">
              <a:spcBef>
                <a:spcPts val="550"/>
              </a:spcBef>
              <a:buClr>
                <a:srgbClr val="666699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edicine consisted of narcotics, morphine, opium, coca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8" descr="1909"/>
          <p:cNvPicPr/>
          <p:nvPr/>
        </p:nvPicPr>
        <p:blipFill>
          <a:blip r:embed="rId1"/>
          <a:stretch/>
        </p:blipFill>
        <p:spPr>
          <a:xfrm>
            <a:off x="4572000" y="1676520"/>
            <a:ext cx="40006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I. Progressivis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The idea that the government was responsible for improving society by promoting social welfare, protecting the environment, and making government more efficient and democra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Muckrakers were journalists who were part of the progressive movement and uncovered the ills meant to be cured by the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2960" indent="-462960">
              <a:spcBef>
                <a:spcPts val="575"/>
              </a:spcBef>
              <a:buClr>
                <a:srgbClr val="666699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Jacob Riis – photographe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822960" indent="-462960">
              <a:spcBef>
                <a:spcPts val="575"/>
              </a:spcBef>
              <a:buClr>
                <a:srgbClr val="666699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Upton Sinclair – wrote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The Jungle,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bout the meatpacking industry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are muckraker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4002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roup of journalists within the Progressive Movemen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y uncovered the nation’s problems and wrote about them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aked the mud of society”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odoreRoosevel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4320" y="1828800"/>
            <a:ext cx="4002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7" descr="riis"/>
          <p:cNvPicPr/>
          <p:nvPr/>
        </p:nvPicPr>
        <p:blipFill>
          <a:blip r:embed="rId1"/>
          <a:stretch/>
        </p:blipFill>
        <p:spPr>
          <a:xfrm>
            <a:off x="5105520" y="1828800"/>
            <a:ext cx="3195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uckrakers Respond to City Proble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4002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ought to expose city life problem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Conditions in Slum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ckrakers blamed city governments for failing to provide adequate roads, sewage and power systems, and transport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cob Riis writes a book to expose “How the Other Half Lives” including disturbing photograp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4320" y="1828800"/>
            <a:ext cx="4002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15" descr="riis3"/>
          <p:cNvPicPr/>
          <p:nvPr/>
        </p:nvPicPr>
        <p:blipFill>
          <a:blip r:embed="rId1"/>
          <a:stretch/>
        </p:blipFill>
        <p:spPr>
          <a:xfrm>
            <a:off x="4648320" y="1828800"/>
            <a:ext cx="403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sponse to Problems in the Workpla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160" y="1828800"/>
            <a:ext cx="4002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4320" y="1828800"/>
            <a:ext cx="4002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uckrakers exposed terrible working condition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itiative: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en everyday American citizens tried to address the problems in the United States by proposing laws &amp; chang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push for laws where children were required to go to schoo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8" descr="usariis11"/>
          <p:cNvPicPr/>
          <p:nvPr/>
        </p:nvPicPr>
        <p:blipFill>
          <a:blip r:embed="rId1"/>
          <a:stretch/>
        </p:blipFill>
        <p:spPr>
          <a:xfrm>
            <a:off x="762120" y="1828800"/>
            <a:ext cx="3732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ponse to Unsafe Produ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4002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n 1906, Upton Sinclar wrote The Jungl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sanitary conditions in meatpacking pl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Muckrakers protested that big businesses were growing richer, while small businesses and the poor struggled even harder to survive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4320" y="1828800"/>
            <a:ext cx="4002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9" descr="45"/>
          <p:cNvPicPr/>
          <p:nvPr/>
        </p:nvPicPr>
        <p:blipFill>
          <a:blip r:embed="rId1"/>
          <a:stretch/>
        </p:blipFill>
        <p:spPr>
          <a:xfrm>
            <a:off x="5181480" y="1828800"/>
            <a:ext cx="2735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14:32:08Z</dcterms:created>
  <dc:creator>student</dc:creator>
  <dc:description/>
  <dc:language>en-US</dc:language>
  <cp:lastModifiedBy>Molly Zeins</cp:lastModifiedBy>
  <dcterms:modified xsi:type="dcterms:W3CDTF">2011-12-04T20:22:20Z</dcterms:modified>
  <cp:revision>5</cp:revision>
  <dc:subject/>
  <dc:title>Intro to the Progressive Era: Muckraking</dc:title>
</cp:coreProperties>
</file>